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4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2825" cy="6858000"/>
  <p:notesSz cx="96234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D6F-BD0C-4105-AF8D-89628B20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9B2-A848-49F1-8A1A-093E323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E8F-DB0F-4F3A-8613-C46276CD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9E9-EC79-4231-802E-7CE5B4E1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F18-E679-4A77-834A-271C6432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D96-049E-4AB4-B208-D7A2375A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07F-DC83-4BE7-BF2A-3D5A7571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4B6-DC7D-48E8-A593-77D8EE2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558-2F7D-4F1D-BCC2-CDC997A2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5AF-E264-4131-ACCF-2F3B9423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A7B-BECF-4987-B2F1-4A887BA5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0C2-1641-4E9D-9B9A-6B7BE84F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-317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6532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05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4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EFE2D29F-3D9A-40DA-A8EF-7F153631EC8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prqa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3504960" cy="3020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0040" y="4219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INEMAR</a:t>
            </a:r>
            <a:br>
              <a:rPr sz="41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Nventario Emissioni ARi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560" y="1219320"/>
            <a:ext cx="6932520" cy="2286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gione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zione Generale Qualità dell’Ambien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fano Caser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gelo Giudici, Marco Moretti, Anna Fraccaroli, Anna Monguzzi, Rosanna Roveda, Paola Bardinella, Andrea Cemin, Silvia Mor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4 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 STRADAL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rovinciali%20A3" descr=""/>
          <p:cNvPicPr/>
          <p:nvPr/>
        </p:nvPicPr>
        <p:blipFill>
          <a:blip r:embed="rId2"/>
          <a:stretch/>
        </p:blipFill>
        <p:spPr>
          <a:xfrm>
            <a:off x="1371600" y="1461960"/>
            <a:ext cx="7315200" cy="5329440"/>
          </a:xfrm>
          <a:prstGeom prst="rect">
            <a:avLst/>
          </a:prstGeom>
          <a:ln w="0">
            <a:noFill/>
          </a:ln>
        </p:spPr>
      </p:pic>
      <p:pic>
        <p:nvPicPr>
          <p:cNvPr id="94" name="logoprqa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 STRADALE STA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tatali%20A3" descr=""/>
          <p:cNvPicPr/>
          <p:nvPr/>
        </p:nvPicPr>
        <p:blipFill>
          <a:blip r:embed="rId2"/>
          <a:stretch/>
        </p:blipFill>
        <p:spPr>
          <a:xfrm>
            <a:off x="1219320" y="1509840"/>
            <a:ext cx="7619760" cy="5111640"/>
          </a:xfrm>
          <a:prstGeom prst="rect">
            <a:avLst/>
          </a:prstGeom>
          <a:ln w="0">
            <a:noFill/>
          </a:ln>
        </p:spPr>
      </p:pic>
      <p:pic>
        <p:nvPicPr>
          <p:cNvPr id="97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3328920" cy="1160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raffico diffus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04920"/>
            <a:ext cx="4290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raffico linear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0440" y="1793880"/>
            <a:ext cx="6162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pert II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(FE e metodologia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0800" y="3639960"/>
            <a:ext cx="48402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missioni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11520" y="5591160"/>
            <a:ext cx="48405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i="1" lang="it-IT" sz="4100" spc="-1" strike="noStrike">
                <a:solidFill>
                  <a:srgbClr val="000000"/>
                </a:solidFill>
                <a:latin typeface="Times New Roman"/>
              </a:rPr>
              <a:t>Fuel balance</a:t>
            </a:r>
            <a:r>
              <a:rPr b="0" lang="it-IT" sz="41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4495680"/>
            <a:ext cx="67122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Consumi di carburan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0040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162920" y="12952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520" y="3124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066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prqa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ULTATI INEMAR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ati provvisori)</a:t>
            </a:r>
            <a:br>
              <a:rPr sz="1400"/>
            </a:br>
            <a:br>
              <a:rPr sz="1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umi di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880400" cy="4903920"/>
          </a:xfrm>
          <a:prstGeom prst="rect">
            <a:avLst/>
          </a:prstGeom>
          <a:ln w="0">
            <a:noFill/>
          </a:ln>
        </p:spPr>
      </p:pic>
      <p:pic>
        <p:nvPicPr>
          <p:cNvPr id="112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ULTATI INEMAR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ati provvisori)</a:t>
            </a: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umi di GAS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805520" cy="4857840"/>
          </a:xfrm>
          <a:prstGeom prst="rect">
            <a:avLst/>
          </a:prstGeom>
          <a:ln w="0">
            <a:noFill/>
          </a:ln>
        </p:spPr>
      </p:pic>
      <p:pic>
        <p:nvPicPr>
          <p:cNvPr id="115" name="logoprqa" descr=""/>
          <p:cNvPicPr/>
          <p:nvPr/>
        </p:nvPicPr>
        <p:blipFill>
          <a:blip r:embed="rId3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ite BENZINA da Bollettino Petrolif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8416800" cy="3585960"/>
          </a:xfrm>
          <a:prstGeom prst="rect">
            <a:avLst/>
          </a:prstGeom>
          <a:ln w="0">
            <a:noFill/>
          </a:ln>
        </p:spPr>
      </p:pic>
      <p:pic>
        <p:nvPicPr>
          <p:cNvPr id="118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ite GASOLIO da Bollettino Petrolif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8705880" cy="3709800"/>
          </a:xfrm>
          <a:prstGeom prst="rect">
            <a:avLst/>
          </a:prstGeom>
          <a:ln w="0">
            <a:noFill/>
          </a:ln>
        </p:spPr>
      </p:pic>
      <p:pic>
        <p:nvPicPr>
          <p:cNvPr id="121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17160" cy="14479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PPORTO 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UMI Totali INEMAR * / VENDITE Bollet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logoprqa" descr=""/>
          <p:cNvPicPr/>
          <p:nvPr/>
        </p:nvPicPr>
        <p:blipFill>
          <a:blip r:embed="rId2"/>
          <a:stretch/>
        </p:blipFill>
        <p:spPr>
          <a:xfrm>
            <a:off x="8381880" y="380880"/>
            <a:ext cx="1187640" cy="695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95280" y="1371600"/>
            <a:ext cx="7467840" cy="493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21240" y="632340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1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ZA (VENDITE-CONSUMI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8305920" cy="5168880"/>
          </a:xfrm>
          <a:prstGeom prst="rect">
            <a:avLst/>
          </a:prstGeom>
          <a:ln w="0">
            <a:noFill/>
          </a:ln>
        </p:spPr>
      </p:pic>
      <p:pic>
        <p:nvPicPr>
          <p:cNvPr id="128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9720" y="632340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413208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ordin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7760" y="1981080"/>
            <a:ext cx="413208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autostrad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762120" y="56383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ZI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3290760"/>
            <a:ext cx="5730840" cy="3567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5730840" cy="3567240"/>
          </a:xfrm>
          <a:prstGeom prst="rect">
            <a:avLst/>
          </a:prstGeom>
          <a:ln w="0">
            <a:noFill/>
          </a:ln>
        </p:spPr>
      </p:pic>
      <p:pic>
        <p:nvPicPr>
          <p:cNvPr id="135" name="logoprqa" descr=""/>
          <p:cNvPicPr/>
          <p:nvPr/>
        </p:nvPicPr>
        <p:blipFill>
          <a:blip r:embed="rId4"/>
          <a:stretch/>
        </p:blipFill>
        <p:spPr>
          <a:xfrm>
            <a:off x="8305920" y="380880"/>
            <a:ext cx="1187280" cy="695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93800" y="636156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152280"/>
            <a:ext cx="75088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etodologia inventario emissioni INEM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680" y="2427120"/>
            <a:ext cx="352116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 =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Q = Emissione annua inquinante per ogni  inquinante e attività secondo la classificazione europea SNAP 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962520"/>
            <a:ext cx="1814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diff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762120"/>
            <a:ext cx="16509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icatori di attiv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agini presso  circa 70 diversi enti, aziende e societ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6320" y="762120"/>
            <a:ext cx="15667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attori di emissione (F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ati Corin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ati specifici   R.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97760" y="3048120"/>
            <a:ext cx="2557440" cy="93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Emissioni da fores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metodologia di dettaglio Corinair (per ogni tipo di essenza a livello comun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80200" y="4724280"/>
            <a:ext cx="2392560" cy="13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Times New Roman"/>
              </a:rPr>
              <a:t>Emissioni da traffico</a:t>
            </a: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 metodologia di dettaglio Copert II; possibilità di variazione percorrenze, veicoli e fattori di emiss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(es. Copert 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5320" y="1371600"/>
            <a:ext cx="2639880" cy="93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da riscald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ima fabbisogni energetici comunali da dati ISTAT 1991 per tipo di abit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0720" y="914400"/>
            <a:ext cx="2806920" cy="1257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puntu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simento di circa 300 impianti (centrali, cementifici, inceneritori, discariche, raffinerie, altri impianti industri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5029200"/>
            <a:ext cx="457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Inem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Emissioni Totali a livello ‘comunale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Visualizzazione tramite GIS Nebula LT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80" y="2373480"/>
            <a:ext cx="3603600" cy="20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9600" y="1846440"/>
            <a:ext cx="2206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20640" y="1952640"/>
            <a:ext cx="8244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5240" y="4419720"/>
            <a:ext cx="330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125960" y="2590920"/>
            <a:ext cx="990720" cy="213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876920"/>
            <a:ext cx="4647960" cy="17524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43160" y="2514600"/>
            <a:ext cx="495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51280" y="2584440"/>
            <a:ext cx="310824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81560" y="3733920"/>
            <a:ext cx="173376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805120" y="2057400"/>
            <a:ext cx="107316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9480" y="3324240"/>
            <a:ext cx="231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ariabili proxy per la ripartizione su base comu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400440" y="495288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ogoprqa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56386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SOLI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41324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ordin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86040" y="2438280"/>
            <a:ext cx="41324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autostrad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95680" y="3270240"/>
            <a:ext cx="5765760" cy="3587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609480"/>
            <a:ext cx="5730840" cy="3565800"/>
          </a:xfrm>
          <a:prstGeom prst="rect">
            <a:avLst/>
          </a:prstGeom>
          <a:ln w="0">
            <a:noFill/>
          </a:ln>
        </p:spPr>
      </p:pic>
      <p:pic>
        <p:nvPicPr>
          <p:cNvPr id="142" name="logoprqa" descr=""/>
          <p:cNvPicPr/>
          <p:nvPr/>
        </p:nvPicPr>
        <p:blipFill>
          <a:blip r:embed="rId4"/>
          <a:stretch/>
        </p:blipFill>
        <p:spPr>
          <a:xfrm>
            <a:off x="8229600" y="457200"/>
            <a:ext cx="1187280" cy="695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9720" y="632340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logoprqa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1187280" cy="695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949320"/>
            <a:ext cx="968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4280" y="652320"/>
            <a:ext cx="88066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ERTEZ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 dati delle VENDITE di carburanti fornite dal Bollettino Petroli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752480"/>
            <a:ext cx="836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umi da traffico pesante di scorrimento e ruolo            pendolarismo (distributore di preferenz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to di extrare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omogeneità sul territorio dei distributori e influenza della razionalizzazione dei punti di vend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logoprqa" descr=""/>
          <p:cNvPicPr/>
          <p:nvPr/>
        </p:nvPicPr>
        <p:blipFill>
          <a:blip r:embed="rId2"/>
          <a:stretch/>
        </p:blipFill>
        <p:spPr>
          <a:xfrm>
            <a:off x="8305920" y="380880"/>
            <a:ext cx="1187280" cy="695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949320"/>
            <a:ext cx="968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8400" y="652320"/>
            <a:ext cx="71348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ERTEZZE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 CONSUMI e nelle EMISSIONI stimate da INE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209680"/>
            <a:ext cx="836316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nze nei dati dei flussi di traf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del modello TR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velocità di percorr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nelle curve di distribuzione temp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nelle percorrenze urbane (classi di comu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tà nel PRQA dei dati d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SSIONI ‘COMUNALI’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416800" cy="4572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zione delle 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e criti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zione del ruolo di nuovi impianti nell’ambito delle 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o alla modellistica degli inquinanti tradizionali e dell’ozono (modelli fotochimi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de 21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ogoprqa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70040" y="1635120"/>
            <a:ext cx="84722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4100"/>
            </a:br>
            <a:br>
              <a:rPr sz="4100"/>
            </a:br>
            <a:r>
              <a:rPr b="1" lang="it-IT" sz="4100" spc="-1" strike="noStrike">
                <a:solidFill>
                  <a:srgbClr val="000000"/>
                </a:solidFill>
                <a:latin typeface="Times New Roman"/>
              </a:rPr>
              <a:t>Emissioni da traffico</a:t>
            </a:r>
            <a:br>
              <a:rPr sz="4100"/>
            </a:br>
            <a:br>
              <a:rPr sz="41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missioni allo scaric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missioni evap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4132080" cy="14475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ctr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affico diff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1120" y="4876920"/>
            <a:ext cx="4132440" cy="13716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ctr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affico lin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35812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58128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ogoprqa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TTU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EMAR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i da traf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902880" cy="5311800"/>
          </a:xfrm>
          <a:prstGeom prst="rect">
            <a:avLst/>
          </a:prstGeom>
          <a:ln w="0">
            <a:noFill/>
          </a:ln>
        </p:spPr>
      </p:pic>
      <p:pic>
        <p:nvPicPr>
          <p:cNvPr id="79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096040" cy="5335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PUT Traffico diffuso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rraria s.r.l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0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ccolta e analisi di 40 Piani Urbani del Traf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zione d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8 PUT di riferimen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appresentanti più del 26% della popolazione da cui tratte informazioni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correnz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locit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relativa distribuzione temporale (ora/tipo giorno/mese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lla base dell’indicato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polazi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fini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 classi di Comun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er cui ipotizzate analoghe percorrenze e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prqa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PUT Traffico lineare /1</a:t>
            </a:r>
            <a:br>
              <a:rPr sz="36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(Systematica s.r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5998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lo di assegnazione del traffico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IP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del modello di assegnazione derivanti dall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i di tutti i dati di traffico disponibili per la Regione Lombardia nel periodo 1993 -199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ilevamenti sistematici e occasionali su strade statali e provinciali,  rilevamenti e matrici O/D sulla rete autostradale, indagini ATM di Milano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prqa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1187280" cy="695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60400" y="210960"/>
            <a:ext cx="616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PUT Traffico lineare /2</a:t>
            </a:r>
            <a:br>
              <a:rPr sz="36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(Systematica s.r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 fontScale="91000"/>
          </a:bodyPr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tteristiche topografiche e di traffico di circ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0 arch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ddivisi t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autostrade (autostrade, tangenziali, superstr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de extraurbane (provinciali, statali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o veicoli (transiti) suddivisi p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categorie di vei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SNAP Sectors (auto passeggeri, veicoli leggeri &lt; 3.5 t, veicoli pesanti &gt; 3.5 t e bus, motocicli &gt; 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cia oraria di punta (7.00-9.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i di distribuzione temporale (4 fasce orarie / 3 giorni tipo / 4 stagion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e di deflusso (frazioni velocità e capacità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prqa" descr=""/>
          <p:cNvPicPr/>
          <p:nvPr/>
        </p:nvPicPr>
        <p:blipFill>
          <a:blip r:embed="rId2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416800" cy="12193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3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E STRADALE PRINCIPAL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ostrade, superstrade, tangenz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utostrade%20A3" descr=""/>
          <p:cNvPicPr/>
          <p:nvPr/>
        </p:nvPicPr>
        <p:blipFill>
          <a:blip r:embed="rId2"/>
          <a:stretch/>
        </p:blipFill>
        <p:spPr>
          <a:xfrm>
            <a:off x="1143000" y="1650960"/>
            <a:ext cx="7696080" cy="4994280"/>
          </a:xfrm>
          <a:prstGeom prst="rect">
            <a:avLst/>
          </a:prstGeom>
          <a:ln w="0">
            <a:noFill/>
          </a:ln>
        </p:spPr>
      </p:pic>
      <p:pic>
        <p:nvPicPr>
          <p:cNvPr id="91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3:15:28Z</dcterms:created>
  <dc:creator>brambilla</dc:creator>
  <dc:description/>
  <dc:language>en-US</dc:language>
  <cp:lastModifiedBy>Silvia</cp:lastModifiedBy>
  <cp:lastPrinted>2000-11-08T11:11:20Z</cp:lastPrinted>
  <dcterms:modified xsi:type="dcterms:W3CDTF">2000-11-10T11:32:09Z</dcterms:modified>
  <cp:revision>257</cp:revision>
  <dc:subject/>
  <dc:title>Nessun titolo diapositiva</dc:title>
</cp:coreProperties>
</file>